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9A4-6A84-4306-A17A-66EFEB4C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6E9-C217-447C-808E-31CAD520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504-DBA9-46F9-8691-6EE262AC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50C-5DFE-41E6-BA21-8F940A89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3F7-675D-4400-A332-A75C71BB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237-F537-4926-8386-30468692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913-E215-4025-8CC8-81643E61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ED4-2B32-433A-B23D-36726ED3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9C4-106D-4396-850E-FBF5241D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4B3-BFCD-4154-AC7E-D87FBC6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A6C-6BA1-4488-BA80-A40AE804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B01-227F-4AB2-9859-2BA73870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74367-6B38-43DD-A629-184AB8F16A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12E13-E5D5-47D5-990D-958DE1434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ward pushes on a box with a force of ___N, and Victoria pushe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 pushes on a box with a force of ___N, and Kenya pushe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yla pushes on a box with a force of ___N, and Zykiria pushe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vin pulls on a rope with a force of ___N, and Greg pulls from the other side with a force of ___N.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rius pulls on a rope with a force of ___N, and Walt pulls from the other side with a force of ___N. 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k pulls on a rope with a force of ___ N, and Travian pulls from the other side with a force of ____N.  Are thes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force pushing 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force pushing dow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to the left and a ___N force pulling to the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force pushing 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lling up and a ___N  force pushing to the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re be movement in the following sit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___N force pushing to the right and a ___N  force pushing to the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are the forces balanced or unbalanc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direction will the object in the picture below mo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10T03:51:10Z</dcterms:modified>
  <cp:revision>3</cp:revision>
  <dc:subject/>
  <dc:title>Slide 1</dc:title>
</cp:coreProperties>
</file>